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39E-F7AB-423F-BE73-4A1B4FC0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E78-B754-4DE4-9B2C-04D54C4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B51-EFCA-43D4-A581-29442A9B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1F2-4827-41C5-868C-39523F21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D8D3-E065-4853-A122-78D02951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ABFB-8D64-4AA5-B991-C907E8A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EDFC-C80D-4054-AD88-3839075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E92A-C29D-46E0-B5D9-73CCF81E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FDDA-93B1-4A6E-BC56-EEB71A5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D0CC-0F3D-430B-B32A-0D17E76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D2FD-FC01-482D-8CDE-CA0254AF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203-F22A-4298-9564-2E2C865D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742B-98CA-40AA-AC62-4E8BC0F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2437-9BB9-43F2-9D15-47F662A0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0B01-B095-4443-84B8-A0B77664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72C-F5D0-47ED-893A-174995B6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2ED4-E920-4F1A-9B63-C34F71E1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05DA-05C8-4ECE-B94A-694515C1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320A3-15F0-4A54-9E36-436B59C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66303-719B-4B56-AECD-2B8ACA2A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CB32-898C-40F6-B796-94140AF0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43F3-63EC-4E53-B188-841046D9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D02-A5EB-493F-B709-AD8D7A1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22C7-9C78-4D07-8662-551F276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E1A9-7C38-4CCE-A00E-BB00C068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69B8-A6B2-4A9A-A3CD-498C4F61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EF1A-39FE-4FFD-8112-CBCE8D0D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579D-9FE5-4E77-88F2-021D561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4649-2F61-4094-AACE-2520AC4C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D939-4FEB-4079-8197-4471B9E9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253-55A5-4D55-9D16-0597ABA7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BDB-1599-4804-862E-38CC623B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D81-BEE5-4CC3-84A9-71772DA7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0C7-BD9F-4C8E-ACB5-0FDC822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550-C4FC-498B-87BF-7241604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31B-38DB-4EAC-96B5-1001BC9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06A-C63B-4D56-9545-56A9CC41C9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5F4-E9E4-4213-B33C-9281159A7B6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0A9F-E60B-4CD6-8FAE-328A596F73A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24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итломания в мире или феномен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atles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ыполнил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Габов Русла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5" descr="beetls"/>
          <p:cNvPicPr/>
          <p:nvPr/>
        </p:nvPicPr>
        <p:blipFill>
          <a:blip r:embed="rId1"/>
          <a:stretch/>
        </p:blipFill>
        <p:spPr>
          <a:xfrm>
            <a:off x="1676520" y="2895480"/>
            <a:ext cx="58672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то мы узнаем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1)  Чем можно объяснить потрясающую популярность «великолепной четверки», которая создала настоящую молодежную субкультуру, оказавшую и продолжающую оказывать влияние на всю западную культуру в целом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2) В чем феномен "Битлз"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3) Каким образом они властвовали над умами нескольких поколений тинэйджеров и стали символом молодежного протест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4) Почему они оказали серьезное влияние на мировое направление моды, торговлю, промышленность, быт и искусство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d06is037"/>
          <p:cNvPicPr/>
          <p:nvPr/>
        </p:nvPicPr>
        <p:blipFill>
          <a:blip r:embed="rId1"/>
          <a:stretch/>
        </p:blipFill>
        <p:spPr>
          <a:xfrm>
            <a:off x="4114800" y="685800"/>
            <a:ext cx="4632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Зачем нам это нужно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8" name="Picture 5" descr="LIB4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2" descr=""/>
          <p:cNvPicPr/>
          <p:nvPr/>
        </p:nvPicPr>
        <p:blipFill>
          <a:blip r:embed="rId1"/>
          <a:stretch/>
        </p:blipFill>
        <p:spPr>
          <a:xfrm>
            <a:off x="365040" y="285840"/>
            <a:ext cx="85536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дставление результатов исследования</a:t>
            </a: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клад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чине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ворческое задание – инсценировк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зент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План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едение в тему проекта. Просмотр  презентации уч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эта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информации по данной теме. Самостоятельная работа учащих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и учеников. Подведение ит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6-02T16:01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